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BE5-819C-4008-AFD5-0E1DC702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B63-E9C4-48AA-A3A6-019A460B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EBA-7F5F-4099-93D3-112A1CE2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BE1-7406-494D-B799-85117DD7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E66F-D3B0-45A4-ABC4-9E93D980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F4D3-A391-465D-A883-5CE0A739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45D4-71CD-4B11-939E-1F60F9F7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7325-46AD-4BFB-924C-633E2D05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C860-CAED-4C82-A6C5-458C9863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27EC-9E81-49A8-99BE-096A642B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11B6-2B14-4378-8DF6-5F407DB4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4E8-8883-423A-A7DB-7A1DDAF7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95E7-D11E-42D9-879F-4C8C4CE7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3744-3C55-465B-9C59-54FE1349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459D-651A-44FF-A2B6-CFAE6C5B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7307-E09E-4134-83E9-11C9130A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26CD-9DAB-4525-BA43-7172A03F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680-FCF1-419A-8201-6802AF1B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95D-21B3-4273-B829-960F6ED9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8D3-F0AE-4D56-AD9B-0037BDA3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72E-CCCF-4823-A2BB-8578819A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602-F980-4E76-88AD-2E7A12FC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A8E-E686-4094-90A8-CB4E7DCB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17F2-B922-4E91-89E3-6C3F5EE4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F128-F2FE-4F37-B6F0-8290CA8998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23AC-5A32-4D68-BC17-732FB27F1D8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ir, We Would See Jesus”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9, Lesson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. 13:3-53; Mark 4:3-34; Luke 8:5-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56-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44AE-0557-4125-8DF8-033669780F50}" type="slidenum">
              <a:t>1</a:t>
            </a:fld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Tares</a:t>
            </a:r>
            <a:br>
              <a:rPr sz="36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tt. 13:24-30, 36-4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and evil exists in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ill be a final separation at the harvest time – the jud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ighteous will shine forth in the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vil to be cast into the furnace of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D98-F5F1-4861-9F7D-FB7934B632D5}" type="slidenum">
              <a:t>10</a:t>
            </a:fld>
          </a:p>
        </p:txBody>
      </p:sp>
    </p:spTree>
  </p:cSld>
  <p:transition spd="med"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Mustard Seed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rk 4:30-32; Matt. 13:24-30, 36-4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th of the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rtance of little things or small begin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755-28C9-4021-9EDB-F51A78D83C1C}" type="slidenum">
              <a:t>11</a:t>
            </a:fld>
          </a:p>
        </p:txBody>
      </p:sp>
    </p:spTree>
  </p:cSld>
  <p:transition spd="med">
    <p:zoom dir="in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Leaven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rk 4:33-34; Matt. 13:33-35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th of the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ven works from with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causes great changes to take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ggressive; spreads by cont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2CC-7A38-4919-98FE-99E793CFC665}" type="slidenum">
              <a:t>12</a:t>
            </a:fld>
          </a:p>
        </p:txBody>
      </p:sp>
    </p:spTree>
  </p:cSld>
  <p:transition spd="med">
    <p:zoom dir="in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Hidden Treasure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tt. 13:44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kingdom is a great trea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rifices are made to obtain the trea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joy to give up things to gain something far b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B1D7-C13C-4832-93E0-B81A5182B3C0}" type="slidenum">
              <a:t>13</a:t>
            </a:fld>
          </a:p>
        </p:txBody>
      </p:sp>
    </p:spTree>
  </p:cSld>
  <p:transition spd="med">
    <p:zoom dir="in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Pearl of Great Price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tt. 13:45-46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kingdom is of great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 must have a definite purpose in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k and search for the b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gs of great value are only obtained at great c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E09-E58C-4C71-92A9-3190F0BB23CF}" type="slidenum">
              <a:t>14</a:t>
            </a:fld>
          </a:p>
        </p:txBody>
      </p:sp>
    </p:spTree>
  </p:cSld>
  <p:transition spd="med">
    <p:zoom dir="in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Net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tt. 13:47-50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od and the bad will be gathered and separated at the jud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vil will be cast into the furnace of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466-1F11-46BF-B217-EC867E0E7765}" type="slidenum">
              <a:t>15</a:t>
            </a:fld>
          </a:p>
        </p:txBody>
      </p:sp>
    </p:spTree>
  </p:cSld>
  <p:transition spd="med">
    <p:zoom dir="in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Householder</a:t>
            </a:r>
            <a:br>
              <a:rPr sz="40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tt. 13:51-5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isciple will use things he knew before becoming a disciple as well as new things learned after becoming a disciple to get the job d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B4B-6F37-46FB-B321-5CA500E21F45}" type="slidenum">
              <a:t>16</a:t>
            </a:fld>
          </a:p>
        </p:txBody>
      </p:sp>
    </p:spTree>
  </p:cSld>
  <p:transition spd="med">
    <p:zoom dir="in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e Life of Chris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rr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l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200400"/>
            <a:ext cx="236232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50532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902-151E-4BE6-A03C-36081E265FBB}" type="slidenum">
              <a:t>2</a:t>
            </a:fld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Great Galilean Ministry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4114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ern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ostles Ca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Multitu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Mira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mon on the M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Op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Par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mited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hn Behea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5029200"/>
            <a:ext cx="236232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5334120"/>
            <a:ext cx="21333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83F-3CC8-4B92-A81B-53B71CB6ED14}" type="slidenum">
              <a:t>3</a:t>
            </a:fld>
          </a:p>
        </p:txBody>
      </p:sp>
    </p:spTree>
  </p:cSld>
  <p:transition spd="med"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What Is A Parable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hing cast along beside” for the purpose of comparison, illustration, or ana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earthly story (or saying) with a heavenly meaning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to an allegory where one thing is described under the image of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BC8-183D-4D25-8FDE-94C60344A167}" type="slidenum">
              <a:t>4</a:t>
            </a:fld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Usage of Parables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re in the Old Test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ver by the apost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one-third of Jesus’ teac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used by the writer John; only a few by M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describe the kingdom of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describe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6B1-AB48-4EB1-8D71-60D80E48AA9F}" type="slidenum">
              <a:t>5</a:t>
            </a:fld>
          </a:p>
        </p:txBody>
      </p:sp>
    </p:spTree>
  </p:cSld>
  <p:transition spd="med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Interpreting the Parabl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central truth set forth in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main lesson of the stor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it in light of the circumstances of its orig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setting or backgrou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context surrounding its us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the details do not have to be meaning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AC1-9277-4B96-BC40-E1786F4F4BC5}" type="slidenum">
              <a:t>6</a:t>
            </a:fld>
          </a:p>
        </p:txBody>
      </p:sp>
    </p:spTree>
  </p:cSld>
  <p:transition spd="med"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Why Did Jesus Use Parables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ause it has been given to you to know the mysteries of the kingdom of heaven, but to them it has not been given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whoever has, to him more will be given, and he will have abundance; but whoever does not have, even what he has will be taken away from him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fore I speak to them in parables, because seeing they do not see, and hearing they do not hear, nor do they understand.”  Matt. 13:11-13 (NKJ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who has ears to hear, let him hear!”  Matt. 13: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F5A-CE64-4598-BD7E-1A55D23BDD8E}" type="slidenum">
              <a:t>7</a:t>
            </a:fld>
          </a:p>
        </p:txBody>
      </p:sp>
    </p:spTree>
  </p:cSld>
  <p:transition spd="med"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Sower</a:t>
            </a:r>
            <a:br>
              <a:rPr sz="36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rk 4:3-25; Matt. 13:3-23; Luke 8:5-18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ch of the teaching efforts will go for no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ility and benefits of a good hear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sons why most people will not receive the W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929-556F-4C5A-8BC5-DEF1FE5035D5}" type="slidenum">
              <a:t>8</a:t>
            </a:fld>
          </a:p>
        </p:txBody>
      </p:sp>
    </p:spTree>
  </p:cSld>
  <p:transition spd="med"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arable of the Growing Seed</a:t>
            </a:r>
            <a:br>
              <a:rPr sz="36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ark 4:26-29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par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interpre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th of the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ges of grow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one can explain how things grow, but yet they do – an operation of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4F4-54F0-4565-B239-2146257EB2E7}" type="slidenum">
              <a:t>9</a:t>
            </a:fld>
          </a:p>
        </p:txBody>
      </p:sp>
    </p:spTree>
  </p:cSld>
  <p:transition spd="med">
    <p:zoom dir="in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2:47:21Z</dcterms:created>
  <dc:creator>Frank D Vines</dc:creator>
  <dc:description/>
  <dc:language>en-US</dc:language>
  <cp:lastModifiedBy>Frank D Vines</cp:lastModifiedBy>
  <dcterms:modified xsi:type="dcterms:W3CDTF">2006-08-27T01:50:50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